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60D-81D8-4F86-A7B2-58386D89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BBF-3799-4D18-A68F-388F9C16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20A-65BD-4811-A6E5-138DD840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152-2C49-4651-8822-39E0F4AF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0B4-66A9-4CF0-A7D1-CDD0F73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8AF-F06A-47B6-BEEB-727BBC3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498-09D2-4E9E-8E85-C5CF5E4E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626-99F8-4235-9692-127BA2F9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33A-FE0F-417B-9DCE-0FE024F9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401-29E6-41F7-8D53-3E88C43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30B-57F3-440B-A0A5-791D693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63A-0A3A-4DE6-A06A-8A94814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DE981-9C31-4A61-9E39-7C38998D96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480" y="985680"/>
            <a:ext cx="1008036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" y="860400"/>
            <a:ext cx="1008036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480" y="906480"/>
            <a:ext cx="10080360" cy="58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